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B2D2-0C63-48E1-BC43-C3D01BAB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FA1-3C64-480C-B490-365EF9E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72D-B4E7-4A93-89D3-DB0D0988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347-F707-4974-90AD-F1028DAB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9521-5E67-4570-A32A-8613B363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045C-522B-409E-8735-DFE4C4DB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BB50-5509-426D-B662-477B6FD9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4E09-7528-4654-A7A6-D0E00C5F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E5B2-545B-4613-80E4-EB2D50B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DC10-242E-4D04-AC5C-2533F3F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AE33-2B76-4033-A31B-4A112CC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82B-135A-4A72-A818-54F2747F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69B-EA51-4CBD-AE0E-46BC15C1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512B-37F9-41DF-A348-3EA0006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4C92-0DB0-44D9-8D7B-63EA738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BAC6-6A85-4DFE-8886-A7210A76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251A-1912-4BF3-9FAD-9A92CD0B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4169-5C98-4303-837E-9E8BD8A9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9E15-D732-4611-9026-36A443F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01CF-C468-4CD2-AF6E-E3CCDE6F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F4B2-5957-453A-8319-1A99C5F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0B64-3D2A-4191-9F27-AC2C5ACE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C91-E273-4D3A-ACF8-96837B40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54D6-6356-4491-907E-58A73AC9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5739-751F-4670-B292-1C7EAAC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B5EB-E323-4468-B652-984C81E1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910C-0FEE-4320-9316-2CBF316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1251-B600-4F4E-845F-D666956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AC01-CB78-473B-B99F-3B17B28F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2627-FD3B-4CFA-9517-9DC4F393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59B-DEA2-405B-BDC9-FBEB8A89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CA0-2206-4834-9629-E56166C5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5EC-EE76-432B-8B5F-43BE5A8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878-E4B3-40A6-8194-4C7E1FD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5E9-18FD-4AD3-A071-E60BAAB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119-731B-4BCA-A2E0-756AB32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D24D-01DB-48EC-81B8-677F3F37F61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D48B-955E-4114-9544-559F46DD095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8DD-9654-4D15-8FBC-EF25D639518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nicrom.com/Tutoriales/unidades.asp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685440"/>
            <a:ext cx="68565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000000"/>
                </a:solidFill>
                <a:latin typeface="Calibri"/>
              </a:rPr>
              <a:t>Organización de Computador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955B-8136-4A27-AEAB-6208F3B6AC7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TIPOS DE COR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TENEMOS DOS TIPOS DE CORRIE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CORRIENTE AL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CORRIENTE DIRE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2E02-8293-4A10-9122-93761833458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ORRIENTE ALTE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Es un tipo de corriente que cambia en el tiempo, por ejemplo la que se obtiene en un tomacorr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j0233786"/>
          <p:cNvPicPr/>
          <p:nvPr/>
        </p:nvPicPr>
        <p:blipFill>
          <a:blip r:embed="rId1"/>
          <a:stretch/>
        </p:blipFill>
        <p:spPr>
          <a:xfrm>
            <a:off x="6019920" y="2117880"/>
            <a:ext cx="2209680" cy="1707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orrientealterna"/>
          <p:cNvPicPr/>
          <p:nvPr/>
        </p:nvPicPr>
        <p:blipFill>
          <a:blip r:embed="rId2"/>
          <a:stretch/>
        </p:blipFill>
        <p:spPr>
          <a:xfrm>
            <a:off x="5181480" y="3809880"/>
            <a:ext cx="3505320" cy="272124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7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DF8E-D8E5-4080-BEBB-7AC167599D7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ORRIENTE DIREC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Es un tipo de corriente que NO cambia en el tiempo, por ejemplo la que se obtiene en una bater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7" descr="j0278890"/>
          <p:cNvPicPr/>
          <p:nvPr/>
        </p:nvPicPr>
        <p:blipFill>
          <a:blip r:embed="rId1"/>
          <a:stretch/>
        </p:blipFill>
        <p:spPr>
          <a:xfrm>
            <a:off x="5791320" y="1371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7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0C1-818C-40EB-A31A-75B65FDFA1E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876920" y="4419720"/>
            <a:ext cx="0" cy="2209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4876920" y="6629400"/>
            <a:ext cx="21333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876920" y="5486400"/>
            <a:ext cx="220968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7149960" y="514656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2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Magnitudes Analóg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La magnitud analógica es aquella que toma valores continuos, es decir, entre un valor y otro siempre hay otro va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46D5-73FE-4AB9-8D6F-3545718CC56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1752480" y="4114800"/>
            <a:ext cx="0" cy="21337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1752120" y="6248520"/>
            <a:ext cx="38862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25640" y="4389480"/>
            <a:ext cx="4110120" cy="1635120"/>
          </a:xfrm>
          <a:custGeom>
            <a:avLst/>
            <a:gdLst>
              <a:gd name="textAreaLeft" fmla="*/ 0 w 4110120"/>
              <a:gd name="textAreaRight" fmla="*/ 4110480 w 411012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2589" h="1030">
                <a:moveTo>
                  <a:pt x="0" y="1030"/>
                </a:moveTo>
                <a:cubicBezTo>
                  <a:pt x="77" y="1007"/>
                  <a:pt x="101" y="962"/>
                  <a:pt x="163" y="921"/>
                </a:cubicBezTo>
                <a:cubicBezTo>
                  <a:pt x="218" y="850"/>
                  <a:pt x="192" y="878"/>
                  <a:pt x="237" y="833"/>
                </a:cubicBezTo>
                <a:cubicBezTo>
                  <a:pt x="281" y="708"/>
                  <a:pt x="324" y="593"/>
                  <a:pt x="352" y="461"/>
                </a:cubicBezTo>
                <a:cubicBezTo>
                  <a:pt x="358" y="432"/>
                  <a:pt x="384" y="411"/>
                  <a:pt x="400" y="386"/>
                </a:cubicBezTo>
                <a:cubicBezTo>
                  <a:pt x="464" y="287"/>
                  <a:pt x="540" y="221"/>
                  <a:pt x="637" y="156"/>
                </a:cubicBezTo>
                <a:cubicBezTo>
                  <a:pt x="670" y="134"/>
                  <a:pt x="712" y="95"/>
                  <a:pt x="752" y="88"/>
                </a:cubicBezTo>
                <a:cubicBezTo>
                  <a:pt x="828" y="75"/>
                  <a:pt x="907" y="69"/>
                  <a:pt x="983" y="61"/>
                </a:cubicBezTo>
                <a:cubicBezTo>
                  <a:pt x="1076" y="52"/>
                  <a:pt x="1249" y="49"/>
                  <a:pt x="1321" y="47"/>
                </a:cubicBezTo>
                <a:cubicBezTo>
                  <a:pt x="1459" y="52"/>
                  <a:pt x="1623" y="0"/>
                  <a:pt x="1735" y="81"/>
                </a:cubicBezTo>
                <a:cubicBezTo>
                  <a:pt x="1872" y="181"/>
                  <a:pt x="1938" y="347"/>
                  <a:pt x="2033" y="481"/>
                </a:cubicBezTo>
                <a:cubicBezTo>
                  <a:pt x="2073" y="538"/>
                  <a:pt x="2061" y="584"/>
                  <a:pt x="2121" y="644"/>
                </a:cubicBezTo>
                <a:cubicBezTo>
                  <a:pt x="2225" y="748"/>
                  <a:pt x="2316" y="763"/>
                  <a:pt x="2460" y="793"/>
                </a:cubicBezTo>
                <a:cubicBezTo>
                  <a:pt x="2501" y="802"/>
                  <a:pt x="2547" y="827"/>
                  <a:pt x="2589" y="8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 rot="16200000">
            <a:off x="502200" y="49968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430080" y="6248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Hrs.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Magnitudes Digi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La magnitud Digital es aquella que toma valores discretos, es decir, toma un valor y otro, no hay otro valor intermedio, por ejemplo 1 o 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B76-8027-4C50-8491-AD6086023D0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1752480" y="4114800"/>
            <a:ext cx="0" cy="21337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 flipH="1">
            <a:off x="1752120" y="6248520"/>
            <a:ext cx="38862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1828800" y="5257800"/>
            <a:ext cx="4724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 flipV="1">
            <a:off x="213372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266688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327672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3809880" y="43434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495288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548640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2133720" y="4343400"/>
            <a:ext cx="533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3276720" y="4343400"/>
            <a:ext cx="533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3809880" y="4343400"/>
            <a:ext cx="60984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952880" y="4343400"/>
            <a:ext cx="5335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2666880" y="5257800"/>
            <a:ext cx="5335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613920" y="49942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6629760" y="419112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5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Aplicación de la señal dig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j0237605"/>
          <p:cNvPicPr/>
          <p:nvPr/>
        </p:nvPicPr>
        <p:blipFill>
          <a:blip r:embed="rId1"/>
          <a:stretch/>
        </p:blipFill>
        <p:spPr>
          <a:xfrm>
            <a:off x="1371600" y="1752480"/>
            <a:ext cx="2055960" cy="1908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3" descr="j0195384"/>
          <p:cNvPicPr/>
          <p:nvPr/>
        </p:nvPicPr>
        <p:blipFill>
          <a:blip r:embed="rId2"/>
          <a:stretch/>
        </p:blipFill>
        <p:spPr>
          <a:xfrm>
            <a:off x="6400800" y="411480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5" descr="j0229741"/>
          <p:cNvPicPr/>
          <p:nvPr/>
        </p:nvPicPr>
        <p:blipFill>
          <a:blip r:embed="rId3"/>
          <a:stretch/>
        </p:blipFill>
        <p:spPr>
          <a:xfrm>
            <a:off x="1600200" y="4191120"/>
            <a:ext cx="1830240" cy="166032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8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583-78AF-4DEF-9B51-F96F44C9F54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477120" y="2286000"/>
            <a:ext cx="129528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2819520" y="2666880"/>
            <a:ext cx="3657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8"/>
          <p:cNvGrpSpPr/>
          <p:nvPr/>
        </p:nvGrpSpPr>
        <p:grpSpPr>
          <a:xfrm>
            <a:off x="3124080" y="2209320"/>
            <a:ext cx="3320640" cy="491760"/>
            <a:chOff x="3124080" y="2209320"/>
            <a:chExt cx="3320640" cy="491760"/>
          </a:xfrm>
        </p:grpSpPr>
        <p:grpSp>
          <p:nvGrpSpPr>
            <p:cNvPr id="240" name="Group 39"/>
            <p:cNvGrpSpPr/>
            <p:nvPr/>
          </p:nvGrpSpPr>
          <p:grpSpPr>
            <a:xfrm>
              <a:off x="3124080" y="2209320"/>
              <a:ext cx="1719000" cy="491760"/>
              <a:chOff x="3124080" y="2209320"/>
              <a:chExt cx="1719000" cy="491760"/>
            </a:xfrm>
          </p:grpSpPr>
          <p:sp>
            <p:nvSpPr>
              <p:cNvPr id="241" name="Line 9"/>
              <p:cNvSpPr/>
              <p:nvPr/>
            </p:nvSpPr>
            <p:spPr>
              <a:xfrm flipV="1">
                <a:off x="312408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10"/>
              <p:cNvSpPr/>
              <p:nvPr/>
            </p:nvSpPr>
            <p:spPr>
              <a:xfrm flipV="1">
                <a:off x="337896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11"/>
              <p:cNvSpPr/>
              <p:nvPr/>
            </p:nvSpPr>
            <p:spPr>
              <a:xfrm flipV="1">
                <a:off x="367020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12"/>
              <p:cNvSpPr/>
              <p:nvPr/>
            </p:nvSpPr>
            <p:spPr>
              <a:xfrm flipV="1">
                <a:off x="3925080" y="2209320"/>
                <a:ext cx="0" cy="194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13"/>
              <p:cNvSpPr/>
              <p:nvPr/>
            </p:nvSpPr>
            <p:spPr>
              <a:xfrm flipV="1">
                <a:off x="421632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14"/>
              <p:cNvSpPr/>
              <p:nvPr/>
            </p:nvSpPr>
            <p:spPr>
              <a:xfrm flipV="1">
                <a:off x="447120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15"/>
              <p:cNvSpPr/>
              <p:nvPr/>
            </p:nvSpPr>
            <p:spPr>
              <a:xfrm flipV="1">
                <a:off x="472608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16"/>
              <p:cNvSpPr/>
              <p:nvPr/>
            </p:nvSpPr>
            <p:spPr>
              <a:xfrm>
                <a:off x="312408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17"/>
              <p:cNvSpPr/>
              <p:nvPr/>
            </p:nvSpPr>
            <p:spPr>
              <a:xfrm>
                <a:off x="367020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18"/>
              <p:cNvSpPr/>
              <p:nvPr/>
            </p:nvSpPr>
            <p:spPr>
              <a:xfrm>
                <a:off x="3925080" y="2209680"/>
                <a:ext cx="29124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19"/>
              <p:cNvSpPr/>
              <p:nvPr/>
            </p:nvSpPr>
            <p:spPr>
              <a:xfrm>
                <a:off x="447120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20"/>
              <p:cNvSpPr/>
              <p:nvPr/>
            </p:nvSpPr>
            <p:spPr>
              <a:xfrm>
                <a:off x="337896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21"/>
              <p:cNvSpPr/>
              <p:nvPr/>
            </p:nvSpPr>
            <p:spPr>
              <a:xfrm>
                <a:off x="421632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Text Box 22"/>
              <p:cNvSpPr/>
              <p:nvPr/>
            </p:nvSpPr>
            <p:spPr>
              <a:xfrm>
                <a:off x="3192480" y="2234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36"/>
              <p:cNvSpPr/>
              <p:nvPr/>
            </p:nvSpPr>
            <p:spPr>
              <a:xfrm>
                <a:off x="374472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37"/>
              <p:cNvSpPr/>
              <p:nvPr/>
            </p:nvSpPr>
            <p:spPr>
              <a:xfrm>
                <a:off x="396252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Text Box 38"/>
              <p:cNvSpPr/>
              <p:nvPr/>
            </p:nvSpPr>
            <p:spPr>
              <a:xfrm>
                <a:off x="451008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40"/>
            <p:cNvGrpSpPr/>
            <p:nvPr/>
          </p:nvGrpSpPr>
          <p:grpSpPr>
            <a:xfrm>
              <a:off x="4725720" y="2209320"/>
              <a:ext cx="1719000" cy="491760"/>
              <a:chOff x="4725720" y="2209320"/>
              <a:chExt cx="1719000" cy="491760"/>
            </a:xfrm>
          </p:grpSpPr>
          <p:sp>
            <p:nvSpPr>
              <p:cNvPr id="259" name="Line 41"/>
              <p:cNvSpPr/>
              <p:nvPr/>
            </p:nvSpPr>
            <p:spPr>
              <a:xfrm flipV="1">
                <a:off x="472572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42"/>
              <p:cNvSpPr/>
              <p:nvPr/>
            </p:nvSpPr>
            <p:spPr>
              <a:xfrm flipV="1">
                <a:off x="498060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43"/>
              <p:cNvSpPr/>
              <p:nvPr/>
            </p:nvSpPr>
            <p:spPr>
              <a:xfrm flipV="1">
                <a:off x="527184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4"/>
              <p:cNvSpPr/>
              <p:nvPr/>
            </p:nvSpPr>
            <p:spPr>
              <a:xfrm flipV="1">
                <a:off x="5526720" y="2209320"/>
                <a:ext cx="0" cy="194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5"/>
              <p:cNvSpPr/>
              <p:nvPr/>
            </p:nvSpPr>
            <p:spPr>
              <a:xfrm flipV="1">
                <a:off x="581796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46"/>
              <p:cNvSpPr/>
              <p:nvPr/>
            </p:nvSpPr>
            <p:spPr>
              <a:xfrm flipV="1">
                <a:off x="607284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47"/>
              <p:cNvSpPr/>
              <p:nvPr/>
            </p:nvSpPr>
            <p:spPr>
              <a:xfrm flipV="1">
                <a:off x="632772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48"/>
              <p:cNvSpPr/>
              <p:nvPr/>
            </p:nvSpPr>
            <p:spPr>
              <a:xfrm>
                <a:off x="472572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49"/>
              <p:cNvSpPr/>
              <p:nvPr/>
            </p:nvSpPr>
            <p:spPr>
              <a:xfrm>
                <a:off x="527184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50"/>
              <p:cNvSpPr/>
              <p:nvPr/>
            </p:nvSpPr>
            <p:spPr>
              <a:xfrm>
                <a:off x="5526720" y="2209680"/>
                <a:ext cx="29124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1"/>
              <p:cNvSpPr/>
              <p:nvPr/>
            </p:nvSpPr>
            <p:spPr>
              <a:xfrm>
                <a:off x="607284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2"/>
              <p:cNvSpPr/>
              <p:nvPr/>
            </p:nvSpPr>
            <p:spPr>
              <a:xfrm>
                <a:off x="498060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53"/>
              <p:cNvSpPr/>
              <p:nvPr/>
            </p:nvSpPr>
            <p:spPr>
              <a:xfrm>
                <a:off x="581796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Text Box 54"/>
              <p:cNvSpPr/>
              <p:nvPr/>
            </p:nvSpPr>
            <p:spPr>
              <a:xfrm>
                <a:off x="4794120" y="2234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Text Box 55"/>
              <p:cNvSpPr/>
              <p:nvPr/>
            </p:nvSpPr>
            <p:spPr>
              <a:xfrm>
                <a:off x="534636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56"/>
              <p:cNvSpPr/>
              <p:nvPr/>
            </p:nvSpPr>
            <p:spPr>
              <a:xfrm>
                <a:off x="556416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57"/>
              <p:cNvSpPr/>
              <p:nvPr/>
            </p:nvSpPr>
            <p:spPr>
              <a:xfrm>
                <a:off x="611172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Line 67"/>
          <p:cNvSpPr/>
          <p:nvPr/>
        </p:nvSpPr>
        <p:spPr>
          <a:xfrm flipH="1">
            <a:off x="3581280" y="426708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8"/>
          <p:cNvSpPr/>
          <p:nvPr/>
        </p:nvSpPr>
        <p:spPr>
          <a:xfrm flipH="1">
            <a:off x="3581280" y="449568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9"/>
          <p:cNvSpPr/>
          <p:nvPr/>
        </p:nvSpPr>
        <p:spPr>
          <a:xfrm flipH="1">
            <a:off x="3581280" y="464832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0"/>
          <p:cNvSpPr/>
          <p:nvPr/>
        </p:nvSpPr>
        <p:spPr>
          <a:xfrm flipH="1">
            <a:off x="3581280" y="487692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1"/>
          <p:cNvSpPr/>
          <p:nvPr/>
        </p:nvSpPr>
        <p:spPr>
          <a:xfrm flipH="1">
            <a:off x="3581280" y="502920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2"/>
          <p:cNvSpPr/>
          <p:nvPr/>
        </p:nvSpPr>
        <p:spPr>
          <a:xfrm flipH="1">
            <a:off x="3581280" y="518148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3"/>
          <p:cNvSpPr/>
          <p:nvPr/>
        </p:nvSpPr>
        <p:spPr>
          <a:xfrm flipH="1">
            <a:off x="3581280" y="533412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74"/>
          <p:cNvSpPr/>
          <p:nvPr/>
        </p:nvSpPr>
        <p:spPr>
          <a:xfrm flipH="1">
            <a:off x="3581280" y="548640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75"/>
          <p:cNvSpPr/>
          <p:nvPr/>
        </p:nvSpPr>
        <p:spPr>
          <a:xfrm>
            <a:off x="5989680" y="392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6"/>
          <p:cNvSpPr/>
          <p:nvPr/>
        </p:nvSpPr>
        <p:spPr>
          <a:xfrm>
            <a:off x="5989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7"/>
          <p:cNvSpPr/>
          <p:nvPr/>
        </p:nvSpPr>
        <p:spPr>
          <a:xfrm>
            <a:off x="5973840" y="499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8"/>
          <p:cNvSpPr/>
          <p:nvPr/>
        </p:nvSpPr>
        <p:spPr>
          <a:xfrm>
            <a:off x="5989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9"/>
          <p:cNvSpPr/>
          <p:nvPr/>
        </p:nvSpPr>
        <p:spPr>
          <a:xfrm>
            <a:off x="5989680" y="446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0"/>
          <p:cNvSpPr/>
          <p:nvPr/>
        </p:nvSpPr>
        <p:spPr>
          <a:xfrm>
            <a:off x="59896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1"/>
          <p:cNvSpPr/>
          <p:nvPr/>
        </p:nvSpPr>
        <p:spPr>
          <a:xfrm>
            <a:off x="4327920" y="263196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2"/>
          <p:cNvSpPr/>
          <p:nvPr/>
        </p:nvSpPr>
        <p:spPr>
          <a:xfrm>
            <a:off x="4326840" y="3774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aral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000000"/>
                </a:solidFill>
                <a:latin typeface="Calibri"/>
                <a:ea typeface="Times New Roman"/>
              </a:rPr>
              <a:t>¿Qué es la electricidad?</a:t>
            </a:r>
            <a:r>
              <a:rPr b="0" lang="es-ES" sz="6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49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odos los elementos de la naturaleza están compuestos de átomos y una de las partículas principales de todos los átomos son los electrones, los cuales se pueden desplazar de un átomo a otro, incluso entre materiales diferentes, formando "corrientes eléctricas" que recorren miles de kilómetros por segu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DCE5-9A9A-41BD-9712-CA5C6FE8EE7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BOMBILLO"/>
          <p:cNvPicPr/>
          <p:nvPr/>
        </p:nvPicPr>
        <p:blipFill>
          <a:blip r:embed="rId1"/>
          <a:stretch/>
        </p:blipFill>
        <p:spPr>
          <a:xfrm>
            <a:off x="228600" y="3808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Voltaje, tensión, diferencia de potencia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0612-FA1B-43FF-B47B-F6214641213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cascada"/>
          <p:cNvPicPr/>
          <p:nvPr/>
        </p:nvPicPr>
        <p:blipFill>
          <a:blip r:embed="rId1"/>
          <a:stretch/>
        </p:blipFill>
        <p:spPr>
          <a:xfrm>
            <a:off x="1905120" y="2057400"/>
            <a:ext cx="6350040" cy="444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TIT_CorrienteContinua"/>
          <p:cNvPicPr/>
          <p:nvPr/>
        </p:nvPicPr>
        <p:blipFill>
          <a:blip r:embed="rId1"/>
          <a:stretch/>
        </p:blipFill>
        <p:spPr>
          <a:xfrm>
            <a:off x="1447920" y="533520"/>
            <a:ext cx="7391160" cy="102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el resultado de el flujo de electrones (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rga nega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por un  conductor (alambre de cobre casi siempre), que en nuestro ejemplo va del termina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gativ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l termina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sitiv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tería,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pasando por e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co / bombillo.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151C-7D1F-461F-B58A-30F2BEC1AF8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TIT_CorrienteContinua"/>
          <p:cNvPicPr/>
          <p:nvPr/>
        </p:nvPicPr>
        <p:blipFill>
          <a:blip r:embed="rId1"/>
          <a:stretch/>
        </p:blipFill>
        <p:spPr>
          <a:xfrm>
            <a:off x="1676520" y="685800"/>
            <a:ext cx="6476760" cy="860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ntinu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e mide en (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mperi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para circuitos electrónicos se mide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miliAmperios) o (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) microAmperios. Ver la tabla siguiente para conver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 (miliamperio)= 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0.00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(Amperi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 uA (microAmperio)= 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0,00000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Amperi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730-2F7B-4814-BE60-15038AC8626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TIT_CorrienteContinua"/>
          <p:cNvPicPr/>
          <p:nvPr/>
        </p:nvPicPr>
        <p:blipFill>
          <a:blip r:embed="rId1"/>
          <a:stretch/>
        </p:blipFill>
        <p:spPr>
          <a:xfrm>
            <a:off x="3390840" y="689040"/>
            <a:ext cx="236232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0278890"/>
          <p:cNvPicPr/>
          <p:nvPr/>
        </p:nvPicPr>
        <p:blipFill>
          <a:blip r:embed="rId2"/>
          <a:stretch/>
        </p:blipFill>
        <p:spPr>
          <a:xfrm>
            <a:off x="1676520" y="358632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BOMBILLO"/>
          <p:cNvPicPr/>
          <p:nvPr/>
        </p:nvPicPr>
        <p:blipFill>
          <a:blip r:embed="rId3"/>
          <a:stretch/>
        </p:blipFill>
        <p:spPr>
          <a:xfrm>
            <a:off x="6400800" y="320040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69D4-10CD-4EC4-82F2-4B6F7FD89DC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7086600" y="1981080"/>
            <a:ext cx="0" cy="37339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2286000" y="1980720"/>
            <a:ext cx="0" cy="22100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2285640" y="1981080"/>
            <a:ext cx="4800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4419720" y="5715000"/>
            <a:ext cx="2666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 flipV="1">
            <a:off x="4419720" y="3048120"/>
            <a:ext cx="0" cy="2666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3123720" y="3048120"/>
            <a:ext cx="12956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3124080" y="3047760"/>
            <a:ext cx="0" cy="1143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3110040" y="17762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5975640" y="17524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7469280" y="21337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202200" y="29718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5716800" y="49528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7469640" y="45720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046 C 0.17066 -0.03954 0.36458 -0.07861 0.44045 0.00162 C 0.51632 0.08185 0.4743 0.40694 0.43246 0.48139 C 0.39062 0.55584 0.22916 0.51029 0.18975 0.44763 C 0.15034 0.38497 0.22482 0.1637 0.196 0.1052 C 0.16718 0.0467 0.04635 0.06358 0.01666 0.09665 C -0.01302 0.12971 0.01823 0.27029 0.01823 0.30381 E">
                                      <p:cBhvr>
                                        <p:cTn id="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ircuitos en serie y paralelo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serparal"/>
          <p:cNvPicPr/>
          <p:nvPr/>
        </p:nvPicPr>
        <p:blipFill>
          <a:blip r:embed="rId1"/>
          <a:stretch/>
        </p:blipFill>
        <p:spPr>
          <a:xfrm>
            <a:off x="1219320" y="2209680"/>
            <a:ext cx="7619760" cy="269568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DEF4-992E-4307-9344-186D9F62441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ircuito se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característica principal de un circuito conectado en serie es que por todos los elementos que componen el circuito circula la misma cantidad de corriente</a:t>
            </a: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bateria"/>
          <p:cNvPicPr/>
          <p:nvPr/>
        </p:nvPicPr>
        <p:blipFill>
          <a:blip r:embed="rId1"/>
          <a:stretch/>
        </p:blipFill>
        <p:spPr>
          <a:xfrm>
            <a:off x="5334120" y="31240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BOMBILLO"/>
          <p:cNvPicPr/>
          <p:nvPr/>
        </p:nvPicPr>
        <p:blipFill>
          <a:blip r:embed="rId2"/>
          <a:stretch/>
        </p:blipFill>
        <p:spPr>
          <a:xfrm>
            <a:off x="7162920" y="22860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7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1FB-72C4-427A-99F3-7F40F3B3628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 flipV="1">
            <a:off x="5943600" y="1904760"/>
            <a:ext cx="0" cy="1523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5943600" y="1905120"/>
            <a:ext cx="16765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8"/>
          <p:cNvSpPr/>
          <p:nvPr/>
        </p:nvSpPr>
        <p:spPr>
          <a:xfrm flipV="1">
            <a:off x="7620120" y="19051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5943600" y="3885840"/>
            <a:ext cx="0" cy="1143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5943600" y="5029200"/>
            <a:ext cx="16765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3" descr="BOMBILLO"/>
          <p:cNvPicPr/>
          <p:nvPr/>
        </p:nvPicPr>
        <p:blipFill>
          <a:blip r:embed="rId3"/>
          <a:stretch/>
        </p:blipFill>
        <p:spPr>
          <a:xfrm>
            <a:off x="7162920" y="373392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4"/>
          <p:cNvSpPr/>
          <p:nvPr/>
        </p:nvSpPr>
        <p:spPr>
          <a:xfrm>
            <a:off x="6554880" y="2514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6248520" y="205740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un circuito conectado en paralelo se establece el mismo voltaje a través de todos los elementos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30F-8E9F-4904-87DA-D274D4D4B52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6400800" y="35053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5105520" y="35053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bateria"/>
          <p:cNvPicPr/>
          <p:nvPr/>
        </p:nvPicPr>
        <p:blipFill>
          <a:blip r:embed="rId1"/>
          <a:stretch/>
        </p:blipFill>
        <p:spPr>
          <a:xfrm>
            <a:off x="3048120" y="47242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179" name="Line 5"/>
          <p:cNvSpPr/>
          <p:nvPr/>
        </p:nvSpPr>
        <p:spPr>
          <a:xfrm flipV="1">
            <a:off x="3657600" y="3504960"/>
            <a:ext cx="0" cy="1523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657600" y="3505320"/>
            <a:ext cx="35053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3657600" y="5486040"/>
            <a:ext cx="0" cy="1143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657600" y="6629400"/>
            <a:ext cx="35812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BOMBILLO"/>
          <p:cNvPicPr/>
          <p:nvPr/>
        </p:nvPicPr>
        <p:blipFill>
          <a:blip r:embed="rId2"/>
          <a:stretch/>
        </p:blipFill>
        <p:spPr>
          <a:xfrm>
            <a:off x="5867280" y="4572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BOMBILLO"/>
          <p:cNvPicPr/>
          <p:nvPr/>
        </p:nvPicPr>
        <p:blipFill>
          <a:blip r:embed="rId3"/>
          <a:stretch/>
        </p:blipFill>
        <p:spPr>
          <a:xfrm>
            <a:off x="4648320" y="45720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6935760" y="44956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6705720" y="365760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03:21:02Z</dcterms:created>
  <dc:creator>Lic. Javier Monge R</dc:creator>
  <dc:description/>
  <dc:language>en-US</dc:language>
  <cp:lastModifiedBy>Rossy</cp:lastModifiedBy>
  <cp:lastPrinted>2001-04-03T15:25:56Z</cp:lastPrinted>
  <dcterms:modified xsi:type="dcterms:W3CDTF">2011-02-01T16:57:44Z</dcterms:modified>
  <cp:revision>39</cp:revision>
  <dc:subject/>
  <dc:title>conceptos electricos</dc:title>
</cp:coreProperties>
</file>